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20.png" ContentType="image/png"/>
  <Override PartName="/ppt/media/image12.png" ContentType="image/png"/>
  <Override PartName="/ppt/media/image6.wmf" ContentType="image/x-wmf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A676-C1C4-4B93-816F-1A25CDFC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2C8-CCA6-45DB-B8A6-9C4EBB65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4178-6190-4A45-8A0A-326A5E29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93C-8194-4186-B4E7-00FDEF21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2D32-CC56-432E-9EC6-C86D971D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31D3-956D-42CA-A17B-59B1EDA0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B032-5675-4DD5-B23A-D178F167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8FC1-E485-4706-B00A-20A01A07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792C-5368-4CFD-92E5-CB4A8AD5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BCAC-A723-473C-AC69-5B28F0AF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184C-70F1-4B54-877A-EEA0A4A7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EAF-5549-4AE8-A17F-5C6A2639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E1A5-556F-4E00-B6F0-CFA14958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F53D-4128-4030-B92E-F136061E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A12D-5A63-4F49-86A6-56D29BCF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357A-F77C-4F8B-AF19-3A6D680A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E1E3-863E-4F1D-B9E4-5575F80C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7964-0FBF-470D-9C65-5C0BB996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A64-4107-4483-AAF7-384AB204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EB70-2FF9-4A63-B647-39C3A017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6BC0-6DAB-4AF3-8923-9ED85A76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8E81-E7F5-45F4-847C-B5C14F6A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1DA-2A33-467C-8B01-793F005B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F5CD-A092-4320-87BD-D9DD1AA2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6D61-D98C-4EC8-AA4F-FE6084E09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6804-0A9E-4B17-894C-6251C8BB28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6/64/Talleyrand-perigord.jpg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963440"/>
            <a:ext cx="7467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Chapter 10: Launching the New Ship of Stat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werPoint Slides for </a:t>
            </a:r>
            <a:r>
              <a:rPr b="0" i="1" lang="en-US" sz="3200" spc="-1" strike="noStrike">
                <a:solidFill>
                  <a:srgbClr val="ccecff"/>
                </a:solidFill>
                <a:latin typeface="Tahoma"/>
              </a:rPr>
              <a:t>The American Pageant, 12</a:t>
            </a:r>
            <a:r>
              <a:rPr b="0" i="1" lang="en-US" sz="3200" spc="-1" strike="noStrike" baseline="30000">
                <a:solidFill>
                  <a:srgbClr val="ccecff"/>
                </a:solidFill>
                <a:latin typeface="Tahoma"/>
              </a:rPr>
              <a:t>th</a:t>
            </a:r>
            <a:r>
              <a:rPr b="0" i="1" lang="en-US" sz="3200" spc="-1" strike="noStrike">
                <a:solidFill>
                  <a:srgbClr val="ccecff"/>
                </a:solidFill>
                <a:latin typeface="Tahoma"/>
              </a:rPr>
              <a:t> Edi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9999ff"/>
                </a:solidFill>
                <a:latin typeface="Tahoma"/>
              </a:rPr>
              <a:t>Constructed by Mr. Frecci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iskey Rebellion (1794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 farmers not happy with tari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unch an “insurrectio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hington personally leads militia into PA to restore order (direct opposite of Shay’s Rebell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s peaceful dialogue over violence in order to change poli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51463310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543800" cy="5045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00240" y="97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ExplorePAHistory-a0h9q7-a_349" descr="An oil on canvas painting of Washington on horseback leading his troops."/>
          <p:cNvPicPr/>
          <p:nvPr/>
        </p:nvPicPr>
        <p:blipFill>
          <a:blip r:embed="rId3"/>
          <a:stretch/>
        </p:blipFill>
        <p:spPr>
          <a:xfrm>
            <a:off x="762120" y="1676520"/>
            <a:ext cx="75438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caused parties to for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600" y="1981080"/>
            <a:ext cx="824868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oriegn Policy dur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French Revolution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olitical Rivalri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emocrat-Republic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s rights (loc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ict construction 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iculture ba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le of the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e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 in S and 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fferson and Madison key suppor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ederal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deral r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se construction 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strial based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oid “mob” rule / el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e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g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 in 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. Adams and Hamilton key suppor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ashington’s Farewell Addres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2" name="washington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3981600" cy="5105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828800" y="2438280"/>
            <a:ext cx="1981080" cy="1447920"/>
          </a:xfrm>
          <a:prstGeom prst="wedgeRoundRectCallout">
            <a:avLst>
              <a:gd name="adj1" fmla="val 160819"/>
              <a:gd name="adj2" fmla="val 33662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eware of entangling alliance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5029200"/>
            <a:ext cx="3352680" cy="1447920"/>
          </a:xfrm>
          <a:prstGeom prst="wedgeRoundRectCallout">
            <a:avLst>
              <a:gd name="adj1" fmla="val 120027"/>
              <a:gd name="adj2" fmla="val -134759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ecause they will get us involved in other people’s w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ating the Presid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notable American rather than P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remely popular at the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ts the bar for what a Pres. do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eign policy of neutr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vents a “backslide” of revolutionary ide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3979800" y="1897200"/>
            <a:ext cx="8037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gw1" descr="Portrait of George Washington"/>
          <p:cNvPicPr/>
          <p:nvPr/>
        </p:nvPicPr>
        <p:blipFill>
          <a:blip r:embed="rId2"/>
          <a:stretch/>
        </p:blipFill>
        <p:spPr>
          <a:xfrm>
            <a:off x="5029200" y="1600200"/>
            <a:ext cx="3495600" cy="510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7381800" y="0"/>
          <a:ext cx="1762200" cy="15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1800" y="0"/>
                    <a:ext cx="176220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0" y="5331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Election of 1796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3047760"/>
            <a:ext cx="4343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ident and V.P. come from different parties for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D split the vote between the tw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candidates vote count not depic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56240" y="1676520"/>
          <a:ext cx="4487760" cy="51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6240" y="1676520"/>
                    <a:ext cx="448776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0" y="0"/>
          <a:ext cx="4952880" cy="259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495288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esident John Ada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y’s Treaty with England            angers D-R and Fr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ms not well liked and comes to power in a very close, bitter e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ck between neo-Federalists led by Hamilton (not pro-British enough) and Jefferson’s D-R (anti-British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ce reacts by seizing American vessels at sea (300 by 179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JohnAdams" descr=""/>
          <p:cNvPicPr/>
          <p:nvPr/>
        </p:nvPicPr>
        <p:blipFill>
          <a:blip r:embed="rId2"/>
          <a:stretch/>
        </p:blipFill>
        <p:spPr>
          <a:xfrm>
            <a:off x="6361200" y="0"/>
            <a:ext cx="2782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asi-War w/ France (1798-1800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 Marshall is sent to France to negotiate w/ Talleyr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Talleyrand-perigord" descr="Image:Talleyrand-perigord.jpg">
            <a:hlinkClick r:id="rId2"/>
          </p:cNvPr>
          <p:cNvPicPr/>
          <p:nvPr/>
        </p:nvPicPr>
        <p:blipFill>
          <a:blip r:embed="rId3"/>
          <a:srcRect l="0" t="7084" r="5547" b="0"/>
          <a:stretch/>
        </p:blipFill>
        <p:spPr>
          <a:xfrm>
            <a:off x="6324480" y="3505320"/>
            <a:ext cx="2597400" cy="3000240"/>
          </a:xfrm>
          <a:prstGeom prst="rect">
            <a:avLst/>
          </a:prstGeom>
          <a:ln w="0">
            <a:noFill/>
          </a:ln>
        </p:spPr>
      </p:pic>
      <p:pic>
        <p:nvPicPr>
          <p:cNvPr id="153" name="CJMarshall" descr=""/>
          <p:cNvPicPr/>
          <p:nvPr/>
        </p:nvPicPr>
        <p:blipFill>
          <a:blip r:embed="rId4"/>
          <a:srcRect l="22649" t="10453" r="21165" b="35314"/>
          <a:stretch/>
        </p:blipFill>
        <p:spPr>
          <a:xfrm>
            <a:off x="228600" y="3505320"/>
            <a:ext cx="2290680" cy="2971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2590920" y="3505320"/>
            <a:ext cx="3657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 bef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y meet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95480" y="5334120"/>
            <a:ext cx="838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86200" y="5257800"/>
            <a:ext cx="838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952880" y="5257800"/>
            <a:ext cx="838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asi-War brought to you by the letters X, Y, and Z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sk for a $250,000 bribe just to talk to Talleyr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shall refuses and returns to Ame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llions for defense, but not one cent for tribut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ms avoids war by appealing to new French ruler Napole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ntion of 1800 = “divorce” w/ F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lien and Sedition Ac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ists during war fervor pass laws to silence the opposition (D-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ien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uralization from 5 to 14 y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ident can jail or deport in time of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dition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eding policies of the government = ja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acking officials in press = jail and f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y Bill of Rights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irteen states had to ratify the Constit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ne states needed to “reset” the country, canceling out the Articles of Confede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ervative document that prevented the “mob” from controlling govern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a surprise to the 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irginia and Kentucky Resolu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ion to the Alien and Sedition A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fferson writes for Kentuc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ison writes for Virgi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s the idea of “nullificatio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ates have the right to ignore laws that the Federal Government “oversteps it’s authority o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al issues were later a right the Supreme Court “adopts” in 180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ating the Presid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notable American rather than P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remely disliked at the time / abrasive person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esn’t get caught up in war fever and does what was best for the coun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lits his party and loses in close election to Jeffer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3979800" y="1897200"/>
            <a:ext cx="8037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94120" y="1886040"/>
            <a:ext cx="8037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ja2" descr="Portrait of John Adams"/>
          <p:cNvPicPr/>
          <p:nvPr/>
        </p:nvPicPr>
        <p:blipFill>
          <a:blip r:embed="rId2"/>
          <a:stretch/>
        </p:blipFill>
        <p:spPr>
          <a:xfrm>
            <a:off x="5105520" y="1676520"/>
            <a:ext cx="3649680" cy="495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7238880" y="0"/>
          <a:ext cx="1905120" cy="16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0"/>
                    <a:ext cx="190512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nti-Federalists vs. Federalis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ti-Federal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s’ r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country dwell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all far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b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. Adams, P. Henry, Richard Henry L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ederal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ong federal gov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aboard dwell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althy and better educ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olled the press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Federalist Pape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. Washington, B. Franklin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dis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amilt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-76320" y="0"/>
          <a:ext cx="8077320" cy="688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6320" y="0"/>
                    <a:ext cx="807732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9903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Election of 1789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ors cast two votes for P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elector selected Washington w/ at least 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C and RI hadn’t ratified the Constit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Y had problems deciding how electors would be cho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057400" y="0"/>
          <a:ext cx="708660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0"/>
                    <a:ext cx="70866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102280" y="914400"/>
          <a:ext cx="4041720" cy="5943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2280" y="914400"/>
                    <a:ext cx="40417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george%20washington" descr=""/>
          <p:cNvPicPr/>
          <p:nvPr/>
        </p:nvPicPr>
        <p:blipFill>
          <a:blip r:embed="rId2"/>
          <a:srcRect l="0" t="0" r="0" b="4804"/>
          <a:stretch/>
        </p:blipFill>
        <p:spPr>
          <a:xfrm>
            <a:off x="3962520" y="285840"/>
            <a:ext cx="5121000" cy="6419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xecutive Branch (1789-1796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1905120"/>
          <a:ext cx="8839080" cy="28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905120"/>
                    <a:ext cx="88390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28600" y="509112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binet not outlined in the Constitution – a “Washington Inventio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 Jay named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hief Justice of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v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mber Supreme Co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gress at work…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mes Madison sought to                     protect the Constitution and                   win over “the anti-Fed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he develops becomes known as the Bill of Rights (he is the “father of”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of the first acts done by the new Federal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iciary Act (1789) organizes the Supreme Cou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madison" descr=""/>
          <p:cNvPicPr/>
          <p:nvPr/>
        </p:nvPicPr>
        <p:blipFill>
          <a:blip r:embed="rId2"/>
          <a:srcRect l="0" t="0" r="0" b="18521"/>
          <a:stretch/>
        </p:blipFill>
        <p:spPr>
          <a:xfrm>
            <a:off x="5943600" y="152280"/>
            <a:ext cx="32004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lexander Hamilt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33920" y="198108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 “natural” citizen (born in the Caribbe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deralist / aide to Wash in 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ch rival: Jeffer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ther of the National Debt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umption fight and comprom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bt was a “national blessing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nk of the United St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425px-Alexander_Hamilton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2940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ational Debt structu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1905120"/>
            <a:ext cx="4267080" cy="99036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ebt owed to Foreig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$11,710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895480"/>
            <a:ext cx="52578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ederal Deb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$42,414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3886200"/>
            <a:ext cx="6019920" cy="99072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Deb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$21,500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876920"/>
            <a:ext cx="30456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4876920"/>
            <a:ext cx="12193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4876920"/>
            <a:ext cx="5335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1814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scellaneous Rev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51814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ms Duties (tariff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6172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ise Revenue (Whiskey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2:13:36Z</dcterms:created>
  <dc:creator>Authorized User</dc:creator>
  <dc:description/>
  <dc:language>en-US</dc:language>
  <cp:lastModifiedBy>Authorized User</cp:lastModifiedBy>
  <dcterms:modified xsi:type="dcterms:W3CDTF">2007-10-22T12:45:29Z</dcterms:modified>
  <cp:revision>8</cp:revision>
  <dc:subject/>
  <dc:title>Chapter 10: Launching the New Ship of State</dc:title>
</cp:coreProperties>
</file>